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03FF-AAFC-4769-A192-C61D0810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A8D-2879-4E5B-8A80-AF396453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80D-FE02-4CDD-8E50-A77F53FD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BAF-9559-4FA9-8068-733F40A5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08F-234C-4E23-BB36-9363C0FD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EC3-D956-4F8C-AA7E-99F93987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007B-6B51-424F-A408-4BF8706B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0AD5-52D7-48AF-8768-B82E8FAC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D8EF-3EA5-410B-8A37-F37CF94C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FA8-6F62-478E-B4DB-E125F64E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DD1-D9DF-46DB-AF05-6818D25A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91C-620E-428F-AFF0-9EF35D3A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E902-823E-4453-AC53-8A6FFB94B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reetypinggame.net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o hit the key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Internet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reetypinggam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@ the first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you have achieved 15 words per minute with no errors, write it down on your tracking sheet and go to the next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#  _______  WPM:  _______       Errors:  ______      Adjusted WPM:  _______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7621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:                                    Class:                               Date:                 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5:17:26Z</dcterms:created>
  <dc:creator>Franklin High School</dc:creator>
  <dc:description/>
  <dc:language>en-US</dc:language>
  <cp:lastModifiedBy>Franklin High School</cp:lastModifiedBy>
  <dcterms:modified xsi:type="dcterms:W3CDTF">2008-04-30T17:35:40Z</dcterms:modified>
  <cp:revision>3</cp:revision>
  <dc:subject/>
  <dc:title>Typing</dc:title>
</cp:coreProperties>
</file>